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CC2A-0A12-4AE5-BC24-4EF26357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1700-C0B9-4C1C-B25D-7FA24D42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672-73FF-4CBB-982A-826A0815A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D9A3-787D-4825-AB70-E9B5D219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85C4-41C1-4BB0-929F-4310C93D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CA80-F8C1-4FA4-BB42-1DC111BB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17FD-8E32-41B3-80A4-BDD9928F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016A-431A-41C9-8768-EED8CDBC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EDB-C621-4FDA-86C1-7F5659B1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B7C3-817F-4A9B-939F-E4EB9A22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D14-F0D6-4583-9EB5-D564222A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4DF-E500-4CA2-AC1B-EAB648F7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C58C-9842-4546-B317-96F5AE5F13F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ference AKAT/S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ext Steps in Asset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ratislava, 26. dubna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pozitář po účinnosti nového zákona o investičních společnostech a investičních fondech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bude pro depozitáře znamenat „neomezená odpovědnost bez ohledu na zavinění?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možné na všechny oblasti kontroly depozitáře aplikovat kontroly pouze ex post (nyní převážně  ex ante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ze při ex post kontrole přijmout neomezenou odpovědnost depozitář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Rizika vyplývající z navrhované legislati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rovnováha v detailně popsaných náležitostech depozitářské smlouvy a zcela obecným popisem převratné změny v úrovni kontrolní činnosti depozitář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existence prováděcích předpisů – budou v ČR přísnější než ukládají evropské předpis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bude v konečném důsledku dopad do reálných kontrolních procesů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dou mít vůbec banky nadále zájem tyto služby posky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cenu budou banky za riziko  v případě neomezené odpovědnosti požad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5:10:15Z</dcterms:created>
  <dc:creator>jboskov1</dc:creator>
  <dc:description/>
  <dc:language>en-US</dc:language>
  <cp:lastModifiedBy>Jana Michalíková - AKAT</cp:lastModifiedBy>
  <dcterms:modified xsi:type="dcterms:W3CDTF">2012-04-24T12:59:08Z</dcterms:modified>
  <cp:revision>11</cp:revision>
  <dc:subject/>
  <dc:title>Konference AKAT/SASS</dc:title>
</cp:coreProperties>
</file>